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2AE0-36A7-4C88-91DF-64CAC80F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 in French and Indian W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ED9F-C7A6-4B41-A1AD-0728ECA1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363-EA23-45BB-8FBC-9568217B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FCC-3CCD-477D-8850-40436CF3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18E-8B9F-440F-BD68-4697ED41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2C3B-15E7-4423-9594-DFB2EA6B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1C1-E6FE-4EAB-9028-DDE71825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BCFB-E9BF-497E-B62A-0EF19AE8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3B20-D201-492B-B7C8-A9E383E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068-EB15-41BD-A31F-464F7CF5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0C31-7D55-4CFA-BA90-A025D565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497A-D55C-4C7F-88E5-3DE3FF59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D65-4DD2-4EDB-8ABF-7F65A184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88CA-9157-4C88-BFBA-3C106C39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8F5-492D-43AD-AFA8-CC7C4CC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E393-D7DF-4597-BCE4-3CB8C02F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8AF-F17A-4109-95D2-AECF33AA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9999-111F-421A-BD46-CFF074BB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9DA-C2BC-4BFE-B022-2B16F01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8427-AB9E-4759-9D75-CAC92B2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67C-5E88-436C-A1A8-63B267E3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42-8F4A-4634-8BFB-0A4A88DA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E3A-4B53-440D-9E99-A346DE2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A9F-4F92-4E84-ABA2-42F895D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DA5-EBBA-44CF-966B-64C3CA6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F440-EE77-47AE-ADE3-7BAACEB5A4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2A2-E876-4366-910B-2E8EC105E4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7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utions and National States in the Atlantic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D102-4F4A-4DF1-BF00-E9CDF282542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ilding an Independent Stat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ar-weariness sets in by 1780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forces surrounded at Yorktown, Virgin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rrender in October 17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litary conflict ceases, treaty at Peace of Paris, 178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gnition of American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87 Constitution of the United States draf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litical and legal equality for men of proper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449-EE3B-4D65-BB0E-BED3A870DB5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rench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rious fiscal problems in F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ar debts, 1780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% of tax revenues to war deb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5% of tax revenues to milit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ads to revolution more radical than the Americ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udiation of many aspects of th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ancien régi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5BA-A842-4039-BF6F-FFC34ED38D34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states General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ree Esta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Roman Catholic C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No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ate: Everyone 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4,000,000 serfs, free peasants, urban resi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tates General founded 1303, had not met since 16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ne vote per estat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776-9E00-4F26-9B46-0669E17009D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1789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test of nobility forces King Louis to call Estates General for new taxes, May 178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state demands greater social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ne,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Estate sece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amed “National Assembl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ly, mob attacks Bastille, bloody battle won by mo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8E2-F134-421A-9D3D-133990843FE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Declaration of Rights of Man and Citize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ugust 178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merican influe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quality of me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men not included: Olympe de Gouges (Marie Gouze) unsucessfully attempts to redress this in 179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vereignty resides in the peop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19F-0F1F-4A66-8B31-0DC123B7B0AE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adicalization of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berty, equality, fraternity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onal Assembly abolishes old social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izes church lands, redefines clergy as civili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onstitution retains king, but subject to legislative author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vention: elected by universal male suffr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ffffff"/>
                </a:solidFill>
                <a:latin typeface="Times New Roman"/>
              </a:rPr>
              <a:t>Levé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 en masse: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onscription for war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uillotine invented to execute domestic enem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93: King Louis and Queen Marie Antoinet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1C0-5525-4F52-8E96-6FCC2D74D84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ximilien Robespierre (1758-1794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Incorruptible,” leader of “Committee of Public Safety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 of Jacobin par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minated Convention, 1793-179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urches closed, priests forced to marr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moted “Cult of Reason” as secular alternative to Christian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lendar reorganized: 10-day weeks, proclaimed Year 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ecuted 40,000; imprisoned 30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86B-B3DA-4873-B564-41F1D99379AC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irectory (1795-1799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utionary enemies of the Jacobi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94 Robespierre arrested, sent to guillot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n of property take power in the form of the Direc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able to solve economic and military problems of revolutionary F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7AB-BF0C-4BA9-B72C-3631779630E9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583240" y="1600200"/>
            <a:ext cx="3279600" cy="3886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"/>
              </a:rPr>
              <a:t>Napoleon Bonaparte</a:t>
            </a: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5105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was born of an impoverished family that held a noble title in the Republic of Genoa (Corsi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As a young child he showed no particular ability to lead and did not do well in school. (Good in mathematics - trig/cal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He was admitted to a military academy in Paris because of his noble ti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Foreign interference and slow progress of the Revolution (officers were needed) war brought him rapid pro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1795 defends the National Convention against an uprising in Paris and gained a Command in Italy for his loyal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Brilliant Success- won six major battles against the Austrians in 2 week and took 15,00 prisoners. (1795-1798 series of victo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Conditions in France were unstable due to the corruptness of the Directory in 1799, Napoleon executes a coup d'et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- He becomes 1st Consul 1799-1802.  In 1802 extends his term for 10 yrs to lif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4DD-B495-4263-B44E-79CFCAF8003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 Bonaparte (1769-1821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53341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minor Corsican nob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my officer under King Louis XIV, general at 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lliant military strateg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s Directory 1799, then overthrew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sed new constitution, named self “Consul for life” in 18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6193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776-CD74-4ECD-96F9-C3AC2FDDE64B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r Sovereign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cient and medieval notions of kingship: “mandate of heaven,” “divine right of king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act of Enlightenment 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ings to be made responsible to subject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hn Locke (1632-1704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econd Treatise of Civil Government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160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gues that rulers derive power from consent of rul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ividuals retain personal rights, give political rights to rul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AD0-59A8-4AD7-8076-BD44518CDC9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153040" cy="5210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715000" y="228600"/>
            <a:ext cx="30002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95280" y="5715000"/>
            <a:ext cx="312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poleon’s First Wif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seph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5257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ie-Louise and son Napoleon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73B-4A74-4711-9A31-45C47321A685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ic Fra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cludes agreement with Pope: Concord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 retains church lands, but pay salaries to cler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eedom of religion, also for Protestants, J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4 promulgates Napoleonic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archal auth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model for many civil c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ght control on newspapers, use of secret po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tually declared himself Empe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93824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1CA-630F-450A-A04F-BE6E4DB9F92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’s Empi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quered Iberian, Italian Peninsulas, Netherlan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ced Austria and Prussia to enter into alli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astrous invasion of Russia in 181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rned Moscow, but defeated by Russian weath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neral Winte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ish, Austrian, Prussian and Russian armies force Napoleon to abdicate, 181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xiled to Island of Elba, escaped to take power again for 100 da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eated by British at Waterloo, exiled to St. Helena, dies 18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99F-DAC0-43E6-8379-0B74DCA66712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poleon’s Empire in 1812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49480" y="1600200"/>
            <a:ext cx="5043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CC0-C6B5-4CAE-A5A8-09ACF85F6F6A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Revolution in Haiti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nly successful slave revol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land of Hispaniol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anish colony Santo Domingo in east (now Dominican Republi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colony of Saint-Domingue in west (now Haiti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ch Caribbean colon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gar, coffee, cott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most 1/3 of France’s foreign tra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E42-67F7-475D-8431-DDAA950DEC72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ety in Saint-Domingu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790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0,000 white French settl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ominated social struc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0,000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free people of color, i.e. mixed-race, freed slav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olders of small plo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00,000 black slaves of African desc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mortality rate, many flee to mount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oons,” escaped slav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CC3-F884-476D-8293-343842D28DFC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Revol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pired by American and French revolu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00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sent to fight British in American War of Indepen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89 white settlers demand self-rule, but with no equality for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gens de couleu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91 civil war breaks ou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laves revolt under Vodou priest named Boukm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, British, Spanish forces attempt to interve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DF4-5918-4937-96BE-D2A807E1886D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François-Dominique Toussaint (1744-1803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names self Louverture (“the opening”), 179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cendant of slaves, freed in 177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ped his original owners escape, then joined rebel fo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ilt army of 20,000, eventually dominated Saint-Doming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1 promulgated constitution of equa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2 arrested by Napoleon’s forces, died in jai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troops driven out, 1804 Haiti declares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182-D02C-4577-BD36-98831980215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atin American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0,000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eninsular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, colonial officials from Iberian peninsul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3.5 millio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criollos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(creoles), born in the Americas of Spanish or Portuguese desc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vileged class, but grievances with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peninsula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10-1825 led movements for creole-dominated republic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 million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frican slaves, mixed-race popul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2FF-CC58-427F-A596-25182EA21D37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xican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poleon’s invasion of Spain and Portugal (1807) weakens royal authority in colon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est Miguel de Hidalgo (1753-1811) leads revol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dalgo captured and executed, but rebellion continu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reole general Augustin de Iturbide (1783-1824) declares independence in 182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stalls self as Emperor, deposed in 1823, republic establish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uthern regions form federation, then divide into Guatemala, El Salvador, Honduras, Nicaragua, Costa R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D9E-78C0-4334-B0B9-4861623E93C9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vidual Freedom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taire (pen name of François-Marie Arouet, 1694-177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Écrasez l’infame,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erase the infamy:” criticism of Roman Catholic Churc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ean-Jacques Rousseau (1712-177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rgues for equality of all individuals, regardless of class, before the la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The Social Contrac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762), argues that society is collectively the sovere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91B-8D4A-4FB0-8B99-4DD2F8DDFF3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imón Bolívar (1783-1830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d independence movement in South Americ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ve of Caracas (Venezuela), influenced by Enlightenment, George Washingt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bels against Spanish rule 1811, forced into hid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rms alliances with many creole leader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sé de San Martín (Argentina, 1778-184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rnardo O’Higgins (Chile, 1778-184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anish rule destroyed in South America by 1825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E08-0A52-4A66-B040-4AEB38B56BCE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ran Colomb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lívar hoped to form U.S.-style feder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enezuela, Columbia, Equador form Gran Colomb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mpts to bring in Peru and Bolívia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ong political differences, Gran Colombia disintegra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lívar goes into self-imposed exile, dies of tuberculo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644-F5B2-4CB8-BD9C-7850845DAC78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razilian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poleon’s invasion sends Portuguese royal court to exile in Rio de Janeir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21 King returns, son Pedro left behind as reg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dro negotiates with creoles, declares independence of Brazi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ecomes Emperor Pedro I (r. 1822-184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 structure remains largely intac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1C5-3AE5-45A1-870A-53CE5C7909F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atin America in 1830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16320" y="1600200"/>
            <a:ext cx="431136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7EE-914E-4323-B57F-F753743DC07D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Ideolog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ervativ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dmund Burke (England, 1729-179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avowed rapid revolutionary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vored slow evolution of socie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ber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ewed conservatives as defenders of illegitimat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status qu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age, not stifle, social chan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n Stuart Mill (England, 1806-187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B0E-5657-427F-AF69-5D007ECB7F08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End of the Slav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aign to end slavery begins in 1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laudah Equiano (1745-1797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ains momentum after American, French and Haitian revolu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illiam Wilberforce (England, 1759-1833), philanthropist, succeeds in having Parliament outlaw slave trade, 180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tates follow suit, but illegal trade continues until 1867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09F-D33C-4CD2-8C35-85B28D87E30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d of the Institution of Slav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iti: slavery ends with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xico slavery abolished 182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rtially to stop U.S. development of slave-based cotton industry in Mex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33 Britain abolishes slavery, offers compensation to former own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her states follow, but offer freedom without equa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perty requirements, literacy tests, etc. block vo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5D35-8088-4639-87CD-DE909AB867E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nlightenment Ideals and Wome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lightenment thinkers remained conservative regarding women’s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usseau argues women should receive education to prepare for lives as wives and moth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ry Astell (England, 1666-1731) argues that women essentially born into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ry Wollstonecraft (England, 1759-1797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A Vindication of the Rights of Woman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7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D3B0-4FFD-46CC-B640-66096588A995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omen and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men active in all phases of French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omen storm Versailles in 1789, demands for foo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publican Revolutionary Women patrol streets of Paris with firear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hold few official positions of author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volution grants equality in education, property, legalized divor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Yet women not allowed to vote, major task of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izabeth Cady Stanton (U.S., 1815-190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E71-00E6-47B6-92EA-97A8EFCA73AF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6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Principles of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1) Revolution does not occur when conditions are at their worst, but rather when things are getting bet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) Revolutions are begun by a small group/ elite of well- educated individuals who demand changes and inspire other people to follo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) Revolutions tend to only change the leadership at the top and not the system of governme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4) Revolutions cause economic disruption and dislocation which usually leads to an economic crisis, there-by putting pressure on the gov't to take harsh/drastic action.  There is a             likelihood these actions will be dictator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) Revolutions once begun must achieve order very quickly or anarchy will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6) As things go wrong, revolutionary gov'ts tend to use the very oppressive, dictatorial methods they sought to chang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7) Revolutions establish a new status quo which they eventually must defend.  Thus the revolutionary becomes a reactiona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8) In reality revolutions change very litt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B93-694E-4A14-B7C0-DCA07B671B3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olution in Americ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tle indication of forthcoming revolution in mid-18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3 colonies regarded themselves as British subj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ng cultural and personal connections with En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tually profitable military and economic relation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BC5-23F7-4C66-B94A-201F69EC09FB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s and National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ion” a type of community, especially prominent in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tinct from clan, religious, regional ident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ually based on shared language, customs, values, historical experie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metimes common relig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 of nation has immediate relationship with political bounda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FCF-AE3A-421D-8BD4-26695EC5B67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ypes of National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ltural nation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ann Gottfried von Herder (1744-1803) praises the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ol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“people”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terature, folklore, music as expressions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Volksgeist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“spirit of the people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litical national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vement for political independence of nation from other auth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fication of national lan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iuseppe Mazzini (1805-1872), “Young Italy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BDF-0648-4976-A8A1-CD476ED647C5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alism and Anti-Semit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tionalist ideologies distrustful of indigenous minor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Pogroms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violent attacks on Jewish communities in Russian Empire beginning 1881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-Semitism rallying cry of many European nationali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nch military Captain Alfred Dreyfus framed for selling military secrets to German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ventually exonerated, but great debate on loyalty of Jews in European socie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9E5-49D0-48CC-BC7D-6A4C89E8256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Zio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odor Herzl (Austria, 1860-1904) journalist at Dreyfus tri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bserved intense mob anti-semitism, concluded that Enlightenment and revolution could not solve this human i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ed to create refuge for Jews by re-establishing Jewish state in Palest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Zion synonymous with Jerusa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97 convened first World Zionist Congr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6C1-3D06-4A7B-B4A1-7A61819B72FE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Congress of Vienna (1814-1815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eting after defeat of Napole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ince Klemens von Metternich (Austria, 1773-1859) supervises dismantling of Napoleon’s empi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blished balance of 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ed to suppress development of nationalism among multi-national empires like the Austri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A54-5EC1-4AD3-8E0A-25ED357EE043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tional Rebell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eeks in Balkan peninsula seek independence from Ottoman Turks, 182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ith European help, Greece achieves independence in 18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bellions all over Europe, especially in 184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bels take Vienna, Metternich resigns and fl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rebellions put down by 184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2AB2-425B-464D-8672-81C49CC2BE72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nifications of Italy and German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taly and Germany formerly disunited groups of regional kingdoms, city-states, ecclesiastical sta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ermany: over three hundred semiautonomous jurisdi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ationalist sentiment develops idea of unif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unt Camillo di Cavour (1810-1861) and Giuseppe Garibaldi (1807-1882) unify Italy under King Vitttore Emmanuele 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tto von Bismarck (1815-1898) advances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</a:rPr>
              <a:t>Realpolit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“the politics of reality”), uses wars with neighbors to unify German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Reich proclaimed in 1871 (Holy Roman Empire the first), King Wilhelm I named Emper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E3B-0598-48AA-AF3A-C52C78BE5E83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Unification of Germany and Ital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7200" y="2013120"/>
            <a:ext cx="8229600" cy="37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572-E923-4D2C-BCEA-818BC57C7F74}" type="slidenum">
              <a:t>47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French and Indian War, 1754-1763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ensive, extens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lapped with Seven Years’ War (1756-1763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nflict in Europe, In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ish victory ensured global dominance, North American prosper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3B0-C1B0-45B6-87C7-685CEB420C44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creased Taxation in 1760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lls come due from the Seven Years’ Wa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x burden falls to the colon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gar Act (176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amp Act (176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Quartering Act (1765) (Housing British Troop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ea Act (1773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36B-BC5B-464F-94E8-AF3484F7AE5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eclaration of Independen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ish products boycotted, officials attack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te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oston Tea Party (1773), tea dumped into Boston harbor in protest against Tea A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taxation without representation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inental Congress formed (1774), coordinates colonists’ resistance to British poli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uly 4, 1776, adopts Declaration of Independ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luence of Locke: retention of individual rights, sovereignty based on consent of the rul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BC7-AFD5-4C89-A4EF-0A09124B1EE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volutionary Wa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stic adva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pular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of British riv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orge Washington (1732-1799) provides imaginative military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a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entral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vy, ar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yalis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CC7-F984-44D5-B363-BA0F041339A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merican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920" y="1600200"/>
            <a:ext cx="41227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4C8E-0EB7-4451-8EB5-A2C14BE95C9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43:03Z</dcterms:created>
  <dc:creator>Henry Abramson</dc:creator>
  <dc:description/>
  <dc:language>en-US</dc:language>
  <cp:lastModifiedBy>ripkensa</cp:lastModifiedBy>
  <dcterms:modified xsi:type="dcterms:W3CDTF">2010-02-01T16:54:59Z</dcterms:modified>
  <cp:revision>20</cp:revision>
  <dc:subject/>
  <dc:title>Chapter 29</dc:title>
</cp:coreProperties>
</file>